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6E11-03D7-4FA5-B32B-FD5E882DB5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31A70-0DE7-4A4D-831F-98C2365B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1081-AADD-436E-892F-688B061B1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E4FC-C76B-4681-B606-347E7369A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371E8-4F73-403C-B782-B7DA332EDE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F5C53-5022-42FC-9F9F-53BB48528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100B4-FFE5-4A40-BFDC-4F2EE459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3DF02-3419-435B-B55C-C34801DC5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D02B5-AACA-4F24-BBD8-FAE94E555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8F689-DA44-4E5E-80B5-57EF5B041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E998-6049-4C1C-89CC-7BB15FA4C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5C4-E5C6-4D03-9C08-DBB2F255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90536-D5FB-47D3-90AF-D666651B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19DB5-78A2-4E15-A882-E3B25E488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EE33-3E65-4219-B52C-638FC2B81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68AB-347F-4F4C-9C8F-957DB68FC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54498-4169-49C2-9233-08DC8409B6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56-3241-4F95-8AC1-550E8E8E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D4CD-FF4B-43F1-A68B-451D523B9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C4056-A9BB-43C7-8189-BE950C549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BC0B-1181-44FD-81A0-CCD7C2C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37980-4217-44F8-82CF-5741CD1B8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B4039-5E22-478F-B7EF-5CDB3269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B274-6FA0-40CB-B8DE-C24EAACC0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67C6B-9CF0-447E-999C-16FE39A02F36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8ED07-CBA9-49E4-939B-B23372D4DF24}" type="slidenum">
              <a:rPr b="0" lang="fr-F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8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C2859-32B0-43EA-BEA2-3BBB7AFF8ACA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9640" y="22050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Mise en œuvre du plan d’actions pour développer et promouvoir la Fédération Internationale des Confréries Bachiques</a:t>
            </a:r>
            <a:br>
              <a:rPr sz="2400"/>
            </a:b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Implementation of the Action Plan for developing and promoting the International Federation of Wine Brotherhoods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32000" y="44366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esentation by/par Alan Bry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emier Vice-président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ssemblée Générale 2014/ General Assembly 201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3150E-8503-46AF-B0BE-15835FC60CFA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lan de la présentation / Outline of the present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artager l’amour et la raison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s confréries et la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ourquoi de nouveaux développements pour la FICB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e plan de développement proposé en 6 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orités 2014-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haring the love and the reason for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wine brotherhoods and the FIC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Why new developments for FICB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proposed development plan in 6 actio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iorities 2014-2016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7" descr="raisin-source_w1x"/>
          <p:cNvPicPr/>
          <p:nvPr/>
        </p:nvPicPr>
        <p:blipFill>
          <a:blip r:embed="rId1"/>
          <a:stretch/>
        </p:blipFill>
        <p:spPr>
          <a:xfrm>
            <a:off x="3924360" y="4724280"/>
            <a:ext cx="1127160" cy="16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993EA-1801-4727-B22A-B6E7E5C6F3C1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artager l’amour et la raison du vin…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Sharing the love and the reason for wine…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uvoir l’art, la tradition et les techniques pour produire des vins de qual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éguster en connaisse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connaître les compétenc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ultiver la convivialité autour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uvoir les terroirs et la diversité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Marier les mets et les vi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ng the art, the tradition and the technology to produce quality wi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asting as a connoisseu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cognizing competenc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Cultivating conviviality around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ng wine producing areas and diversity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Good alliance of wine and foo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8" descr="ANd9GcQ4pnceUFweXovBdiejD0rlTW3CV_Qwa27H6Tqw3wtIp85CzJ6KlmNLmJc3"/>
          <p:cNvPicPr/>
          <p:nvPr/>
        </p:nvPicPr>
        <p:blipFill>
          <a:blip r:embed="rId1"/>
          <a:stretch/>
        </p:blipFill>
        <p:spPr>
          <a:xfrm>
            <a:off x="3492360" y="5013360"/>
            <a:ext cx="2238480" cy="14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060D0-B143-4BB7-A2D8-00AD45F5B41A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Les confréries bachiques et 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la Fédération internationale (FICB)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Wine brotherhoods and the international federation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La plus ancienne: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l'Antico Confrarie de Sant-Andiu de la Galinieir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constituée en 1140 à Bézi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lusieurs centaines en France et dans le mo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on de la dégustation du vin et des terroi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créée e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Des confréries membres de la FICB dans une douzaine de pay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The oldest: </a:t>
            </a:r>
            <a:r>
              <a:rPr b="0" i="1" lang="fr-FR" sz="2000" spc="-1" strike="noStrike">
                <a:solidFill>
                  <a:srgbClr val="ffffff"/>
                </a:solidFill>
                <a:latin typeface="Tahoma"/>
              </a:rPr>
              <a:t>Antico Confrarie de San-Andiu de la Galineiro</a:t>
            </a: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 formed in Béziers in 114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Several hundreds of wine brotherhoods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Promotion of wine tasting and wine production are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created in 1964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FICB member brotherhoods in in a dozen countri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9" name="Picture 10" descr="CIMG0350"/>
          <p:cNvPicPr/>
          <p:nvPr/>
        </p:nvPicPr>
        <p:blipFill>
          <a:blip r:embed="rId1"/>
          <a:stretch/>
        </p:blipFill>
        <p:spPr>
          <a:xfrm>
            <a:off x="3276720" y="4797360"/>
            <a:ext cx="2462040" cy="16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84DC2-3362-4A91-976E-4C0D06C63227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ourquoi développer la FICB?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Why develop the Federation?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ccroissement des régions viticoles dans le mond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Elargissement et diversification des consommateu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érêt pour la qualité du vi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Nouvelles possibilités et outils offerts par 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Atteindre la taille critique pour la Fédé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00720" y="1988640"/>
            <a:ext cx="403848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crease in wine producing areas in the worl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Broader and more diverse consumer bas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Interest in quality of w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New possibilities and tools offered by Interne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Tahoma"/>
              </a:rPr>
              <a:t>Reach the critical size for the Federatio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5" name="Picture 7" descr="220px-Paziols,_procession"/>
          <p:cNvPicPr/>
          <p:nvPr/>
        </p:nvPicPr>
        <p:blipFill>
          <a:blip r:embed="rId1"/>
          <a:stretch/>
        </p:blipFill>
        <p:spPr>
          <a:xfrm>
            <a:off x="3419640" y="4797360"/>
            <a:ext cx="2073240" cy="15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CD0F1-5E5C-4E42-8612-978C3FEF3AB9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Plan d’actions 2012-2017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Action plan 2012-2017</a:t>
            </a:r>
            <a:br>
              <a:rPr sz="2400"/>
            </a:br>
            <a:r>
              <a:rPr b="0" i="1" lang="fr-FR" sz="1800" spc="-1" strike="noStrike">
                <a:solidFill>
                  <a:srgbClr val="ffffcc"/>
                </a:solidFill>
                <a:latin typeface="Tahoma"/>
              </a:rPr>
              <a:t>(adopté à l’AG 2012-adopted at the 2012 GA)</a:t>
            </a:r>
            <a:endParaRPr b="0" lang="en-US" sz="1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évision des statuts et du règlement intérieur, notamment création d’une catégorie de « membres associés »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fait en 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de la Fédération comme référence et point focal mondial sur le « bien boire » et le « mariage des mets et des vin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structuration du site Internet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fait en 2013, à poursuivr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ation d’une « charte mondiale des confréries bachique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des adhé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-45252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lance d’activités internationales sous l’égide de la Fédé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vision of the statutes and rules of procedure, i.a. creation of a new category of « associate members » </a:t>
            </a:r>
            <a:r>
              <a:rPr b="0" lang="fr-FR" sz="1800" spc="-1" strike="noStrike">
                <a:solidFill>
                  <a:srgbClr val="ffff00"/>
                </a:solidFill>
                <a:latin typeface="Tahoma"/>
              </a:rPr>
              <a:t>(done in 2013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of the Federation as the reference and global focal point on « quality wine tasting » and « good alliance of food and wine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evamping of the website </a:t>
            </a:r>
            <a:r>
              <a:rPr b="0" i="1" lang="fr-FR" sz="1800" spc="-1" strike="noStrike">
                <a:solidFill>
                  <a:srgbClr val="ffff00"/>
                </a:solidFill>
                <a:latin typeface="Tahoma"/>
              </a:rPr>
              <a:t>(done in 2013 and to be pursued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ation of a « world charter for wine brotherhoods »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ion of membership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457200" indent="-457200">
              <a:lnSpc>
                <a:spcPct val="80000"/>
              </a:lnSpc>
              <a:spcBef>
                <a:spcPts val="451"/>
              </a:spcBef>
              <a:buClr>
                <a:srgbClr val="ffcc66"/>
              </a:buClr>
              <a:buSzPct val="8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velopment of new international activities under the auspices of the Federat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cc"/>
                </a:solidFill>
                <a:latin typeface="Tahoma"/>
              </a:rPr>
              <a:t>Priorités 2014-2016</a:t>
            </a:r>
            <a:br>
              <a:rPr sz="2800"/>
            </a:br>
            <a:r>
              <a:rPr b="0" lang="fr-FR" sz="2800" spc="-1" strike="noStrike">
                <a:solidFill>
                  <a:srgbClr val="ffffcc"/>
                </a:solidFill>
                <a:latin typeface="Tahoma"/>
              </a:rPr>
              <a:t>Priorities 2014-2016</a:t>
            </a:r>
            <a:endParaRPr b="0" lang="en-US" sz="2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Utiliser le cinquantenaire pour communiquer sur la FICB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Réussir le Congrès FICB 2014 en Champag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solider et alimenter le site interne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uvoir l’échange d’expérience entre confréries et relancer les adhési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éparer les futurs évènements internationaux (rencontres au Portugal en 2015, Congrès FICB aux USA en 2016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Elaborer la Charte de la FICB et les signes d’appartenance (diplôme, cap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Use the 50th FICB anniversary to communica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Hold a successful 2014 FICB Congress in Champagn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Consolidate and feed the websit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omote exchange of experience between brotherhoods and new membership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Prepare future FICB international events (Portugal 2015, 2016 FICB Congress in the USA?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>
              <a:spcBef>
                <a:spcPts val="45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Tahoma"/>
              </a:rPr>
              <a:t>Develop an FICB Charter and signs of membership (diploma, cape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Espace réservé du pied de page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Espace réservé du numéro de diapositiv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3298B-61F0-48DF-8C7D-DD9110A715A5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Espace réservé du pied de page 5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Tahoma"/>
              </a:rPr>
              <a:t>alanbryden@orange.fr 2014-01-25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Espace réservé du numéro de diapositiv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D4694-269D-46DA-B80F-1C552F2C04E8}" type="slidenum">
              <a:rPr b="0" lang="fr-FR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Merci pour votre attention!</a:t>
            </a:r>
            <a:br>
              <a:rPr sz="2400"/>
            </a:br>
            <a:r>
              <a:rPr b="1" lang="fr-FR" sz="2400" spc="-1" strike="noStrike">
                <a:solidFill>
                  <a:srgbClr val="ffffcc"/>
                </a:solidFill>
                <a:latin typeface="Tahoma"/>
              </a:rPr>
              <a:t>Thanks for your attention!</a:t>
            </a:r>
            <a:endParaRPr b="0" lang="en-US" sz="2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29" name="Picture 7" descr="raisin-source_w1x"/>
          <p:cNvPicPr/>
          <p:nvPr/>
        </p:nvPicPr>
        <p:blipFill>
          <a:blip r:embed="rId1"/>
          <a:stretch/>
        </p:blipFill>
        <p:spPr>
          <a:xfrm>
            <a:off x="944640" y="1600200"/>
            <a:ext cx="3062160" cy="44956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8" descr="drapeaux globe"/>
          <p:cNvPicPr/>
          <p:nvPr/>
        </p:nvPicPr>
        <p:blipFill>
          <a:blip r:embed="rId2"/>
          <a:stretch/>
        </p:blipFill>
        <p:spPr>
          <a:xfrm>
            <a:off x="4859280" y="1773360"/>
            <a:ext cx="3843360" cy="38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20T14:36:36Z</dcterms:created>
  <dc:creator>abryden-adc</dc:creator>
  <dc:description/>
  <dc:language>en-US</dc:language>
  <cp:lastModifiedBy>ALAN</cp:lastModifiedBy>
  <dcterms:modified xsi:type="dcterms:W3CDTF">2014-01-25T10:33:36Z</dcterms:modified>
  <cp:revision>15</cp:revision>
  <dc:subject/>
  <dc:title>Partager l’amour et la raison du vin…</dc:title>
</cp:coreProperties>
</file>