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6CD0-3FBF-4C05-8F00-3A329FD59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D80B9-13B4-479B-BD78-54DACB4A6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E4601-0149-4C2B-AAC7-A4E2D097E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AA68C-3600-49D0-AA67-41A183C1B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76168-C788-4BE2-AD32-ABC14C9B0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7CA26-035F-46DC-A64A-00C1CDF9A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67FF6-C662-4CDC-8587-311D268BF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3E01-F86D-47AA-9941-BC092F567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6D9E-8CFA-4AE9-BE85-F0CFA413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3D7F5-8E0D-4DE3-A2D1-3B2D25CD9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7555B-4076-47F3-A0B3-6770C2BFA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3E56D-EC43-4D99-A747-FA7846988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7A243-7835-4D21-8848-F30ECCAD81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1D84-6253-4D8A-843B-F5DFB7746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50B7B-E968-41FA-B21E-84C54A38F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728D2-3D59-48F7-BA6A-F81E946E3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8D1438-C523-451A-9DBC-E24178379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3710B-2308-47AD-9D2C-64DA7D66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46EA7-5A6A-4F18-A9EA-F06720823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07EDD-02EE-4BDC-97AC-3C5EC61B5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AA1F-2C78-4DB4-85F5-8F552C42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4AF9-B44E-4A32-ACF3-EA3E50F51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6F03C-A103-401F-AE56-7AC7C86FC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DB29E-0409-43CF-88FD-062EDEBC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69CC7-80D7-467C-B8E7-3FD51F695F63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055C6-1A67-4BA7-8A1F-D2C2DA569BAB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4E355-4152-4A9C-B55F-9BA198270B91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Mise en œuvre du plan d’actions pour développer et promouvoir la Fédération Internationale des Confréries Bachiques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Implementation of the Action Plan for developing and promoting the International Federation of Wine Brotherhood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esentation by/par Alan Bry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emier Vice-président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ssemblée Générale 2014/ General Assembly 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EFCBD-6B80-43AA-BE35-87A10CA734FA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lan de la présentation / Outline of the pres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artager l’amour et la raison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s confréries et la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quoi de nouveaux développements pour la FICB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 plan de développement proposé en 6 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orités 2014-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haring the love and the reason for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wine brotherhoods and the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Why new developments for FICB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proposed development plan in 6 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orities 2014-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raisin-source_w1x"/>
          <p:cNvPicPr/>
          <p:nvPr/>
        </p:nvPicPr>
        <p:blipFill>
          <a:blip r:embed="rId1"/>
          <a:stretch/>
        </p:blipFill>
        <p:spPr>
          <a:xfrm>
            <a:off x="3924360" y="4724280"/>
            <a:ext cx="11271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E8AB-BD7B-429F-8532-F6B31068EBAE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artager l’amour et la raison du vin…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Sharing the love and the reason for wine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uvoir l’art, la tradition et les techniques pour produire des vins de qu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éguster en connaisse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connaître les compé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ultiver la convivialité autour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uvoir les terroirs et la diver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Marier les mets et les v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ng the art, the tradition and the technology to produce quality w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asting as a connoisse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cognizing compe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ultivating conviviality around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ng wine producing areas and diver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Good alliance of wine and 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ANd9GcQ4pnceUFweXovBdiejD0rlTW3CV_Qwa27H6Tqw3wtIp85CzJ6KlmNLmJc3"/>
          <p:cNvPicPr/>
          <p:nvPr/>
        </p:nvPicPr>
        <p:blipFill>
          <a:blip r:embed="rId1"/>
          <a:stretch/>
        </p:blipFill>
        <p:spPr>
          <a:xfrm>
            <a:off x="3492360" y="5013360"/>
            <a:ext cx="22384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DA5EA-3FC3-4B06-8D65-2B2F252A27D0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Les confréries bachiques et 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la Fédération internationale (FICB)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Wine brotherhoods and the international feder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plus ancienne: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'Antico Confrarie de Sant-Andiu de la Galinieir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constituée en 1140 à Bézi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lusieurs centaines en France et dans le mo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on de la dégustation du vin et des terroi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créée e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s confréries membres de la FICB dans une douzaine de p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oldest: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Antico Confrarie de San-Andiu de la Galineir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formed in Béziers in 114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everal hundreds of wine brotherhoods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on of wine tasting and wine production ar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created i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member brotherhoods in in a dozen count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CIMG0350"/>
          <p:cNvPicPr/>
          <p:nvPr/>
        </p:nvPicPr>
        <p:blipFill>
          <a:blip r:embed="rId1"/>
          <a:stretch/>
        </p:blipFill>
        <p:spPr>
          <a:xfrm>
            <a:off x="3276720" y="4797360"/>
            <a:ext cx="24620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D58B1-09E9-4796-BD47-024B07E22D2D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ourquoi développer la FICB?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Why develop the Federation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ccroissement des régions viticoles dans le mo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largissement et diversification des consommate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érêt pour la qualité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Nouvelles possibilités et outils offerts par 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tteindre la taille critique pour la Fédé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00720" y="1988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crease in wine producing areas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Broader and more diverse consumer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erest in quality of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New possibilities and tools offered by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ach the critical size for the Fede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220px-Paziols,_procession"/>
          <p:cNvPicPr/>
          <p:nvPr/>
        </p:nvPicPr>
        <p:blipFill>
          <a:blip r:embed="rId1"/>
          <a:stretch/>
        </p:blipFill>
        <p:spPr>
          <a:xfrm>
            <a:off x="3419640" y="4797360"/>
            <a:ext cx="20732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0B09-0A9E-48F4-B04C-97C81AF46849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lan d’actions 2012-2017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Action plan 2012-2017</a:t>
            </a:r>
            <a:br>
              <a:rPr sz="2400"/>
            </a:br>
            <a:r>
              <a:rPr b="0" i="1" lang="fr-FR" sz="1800" spc="-1" strike="noStrike">
                <a:solidFill>
                  <a:srgbClr val="ffffcc"/>
                </a:solidFill>
                <a:latin typeface="Tahoma"/>
              </a:rPr>
              <a:t>(adopté à l’AG 2012-adopted at the 2012 GA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évision des statuts et du règlement intérieur, notamment création d’une catégorie de « membres associés »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fait en 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de la Fédération comme référence et point focal mondial sur le « bien boire » et le « mariage des mets et des vin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structuration du site Internet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fait en 2013, à poursuiv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ation d’une « charte mondiale des confréries bachique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des adhé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lance d’activités internationales sous l’égide de la Fédé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vision of the statutes and rules of procedure, i.a. creation of a new category of « associate members »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(done in 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of the Federation as the reference and global focal point on « quality wine tasting » and « good alliance of food and wine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vamping of the website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done in 2013 and to be pursu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ation of a « world charter for wine brotherhood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of member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velopment of new international activities under the auspices of the Fede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ahoma"/>
              </a:rPr>
              <a:t>Priorités 2014-2016</a:t>
            </a:r>
            <a:br>
              <a:rPr sz="2800"/>
            </a:br>
            <a:r>
              <a:rPr b="0" lang="fr-FR" sz="2800" spc="-1" strike="noStrike">
                <a:solidFill>
                  <a:srgbClr val="ffffcc"/>
                </a:solidFill>
                <a:latin typeface="Tahoma"/>
              </a:rPr>
              <a:t>Priorities 2014-201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Utiliser le cinquantenaire pour communiquer sur la FIC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éussir le Congrès FICB 2014 en Champag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solider et alimenter le site inte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uvoir l’échange d’expérience entre confréries et relancer les adhé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éparer les futurs évènements internationaux (rencontres au Portugal en 2015, Congrès FICB aux USA en 2016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er la Charte de la FICB et les signes d’appartenance (diplôme, cap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Use the 50th FICB anniversary to communic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Hold a successful 2014 FICB Congress in Champag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solidate and feed the webs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e exchange of experience between brotherhoods and new membershi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epare future FICB international events (Portugal 2015, 2016 FICB Congress in the USA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velop an FICB Charter and signs of membership (diploma, cap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0A209-7ED4-426D-98A7-4489728878D4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CAD88-7F9B-4FE7-ACCF-A8186BD4AECE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Merci pour votre attention!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Thanks for your attention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raisin-source_w1x"/>
          <p:cNvPicPr/>
          <p:nvPr/>
        </p:nvPicPr>
        <p:blipFill>
          <a:blip r:embed="rId1"/>
          <a:stretch/>
        </p:blipFill>
        <p:spPr>
          <a:xfrm>
            <a:off x="944640" y="1600200"/>
            <a:ext cx="306216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drapeaux globe"/>
          <p:cNvPicPr/>
          <p:nvPr/>
        </p:nvPicPr>
        <p:blipFill>
          <a:blip r:embed="rId2"/>
          <a:stretch/>
        </p:blipFill>
        <p:spPr>
          <a:xfrm>
            <a:off x="4859280" y="1773360"/>
            <a:ext cx="3843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4:36:36Z</dcterms:created>
  <dc:creator>abryden-adc</dc:creator>
  <dc:description/>
  <dc:language>en-US</dc:language>
  <cp:lastModifiedBy>ALAN</cp:lastModifiedBy>
  <dcterms:modified xsi:type="dcterms:W3CDTF">2014-01-25T10:33:36Z</dcterms:modified>
  <cp:revision>15</cp:revision>
  <dc:subject/>
  <dc:title>Partager l’amour et la raison du vin…</dc:title>
</cp:coreProperties>
</file>